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EB57-5A72-4C62-827E-1C8314E3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926F-EB46-4AE5-A0F4-0ADEE095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8380-D93A-4AB8-BBF8-8DFE873B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1579-24A3-49FA-A734-489FBE41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E337-8ADF-427F-B617-2798DF5C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E996-4744-4D11-B6B0-9BB1789E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4BF8-ED3D-42DC-BB22-A180AC91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9A7A-DAE1-4761-B62F-900C0B9B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E178-0BDE-47DB-A99D-9CC8C065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5C8A-F52D-484A-A11D-CDC187F5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651E-EFC3-4400-92B5-BD0F7064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2478-F875-4968-8516-EE0D794E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A698-0F27-4B0A-BCBB-5D8039A3C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ációs rendszerek 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inux foly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Root (gyökér) könyvtá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öbb okból is kívánatos, hogy a root fájlrendszer kisméretű legy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root fájlrendszert esetenként igen kis méretű adathordozón építjük f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root fájlrendszer igen sok rendszerspecifikus konfigurációs fájlt tartalmaz (például a rendszerre jellemző kernel, a számítógép neve, stb.). Ez azt jelenti, hogy a root fájlrendszer nem mindig osztható meg hálózati rendszerek közöt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 a root fájlrendszert egy nagyméretű területen helyezed el, és teletöltöd mindenféle égi és földi jóval, akkor az ottani felhasználók kisebb területekkel fognak rendelkezn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 sok fájlt installáltál erre a nagyméretű root fájlrendszerre, akkor jóval gyakrabban is fogsz kompatibilitási hibákkal találkozni, ellentétben azokkal a rendszerekkel, amelyek a root fájlrendszert egy kisebb partíción helyezték 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isméretű root fájlrendszer kevésbé hajlamos olyan sérülésre, amely esetleg még rendszerösszeomlást is eredményez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Root (gyökér) könyvtá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ülönböző okai vannak annak, hogy miért tiltott új alkönyvtárak létrehozása a root fájlrendszer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lusz helyet foglal el azon a - root - partíción, amelyet a rendszeradminisztrátor minél egyszerűbbnek és kisebb méretűnek akar megtartani (például teljesítményi vagy biztonsági okból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ívül eshet a rendszeradminisztrátor figyelme alól, amikor az a szabvány fájlhierarchia osztályozását végzi a becsatlakoztatható köteteken keresztü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Root (gyökér) könyvtá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6912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hu-HU" sz="2800" spc="-1" strike="noStrike">
                <a:solidFill>
                  <a:srgbClr val="000000"/>
                </a:solidFill>
                <a:latin typeface="Arial"/>
              </a:rPr>
              <a:t>bi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: Alapvető felhasználói parancs binárisok (valamennyi felhasználó részére)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hu-HU" sz="2800" spc="-1" strike="noStrike">
                <a:solidFill>
                  <a:srgbClr val="000000"/>
                </a:solidFill>
                <a:latin typeface="Arial"/>
              </a:rPr>
              <a:t>/bi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önyvtár azokat a parancsokat tartalmazza, amelyek a rendszeradminisztrátor és a felhasználók által egyaránt használtak, de amelyek szükségesek az egyszemélyes (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) felhasználói módban 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lyan parancsokat is tartalmazhat, amelyek közvetett módon - scriptek által - használható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hu-HU" sz="2800" spc="-1" strike="noStrike">
                <a:solidFill>
                  <a:srgbClr val="000000"/>
                </a:solidFill>
                <a:latin typeface="Arial"/>
              </a:rPr>
              <a:t>/bi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önyvtárnak ne legyen alkönyvtá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hu-HU" sz="2800" spc="-1" strike="noStrike">
                <a:solidFill>
                  <a:srgbClr val="000000"/>
                </a:solidFill>
                <a:latin typeface="Arial"/>
              </a:rPr>
              <a:t>bi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: Alapvető felhasználói parancs binárisok (valamennyi felhasználó részére)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/bin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 legszükségesebb fájljai: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Általános parancso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at, chgrp, chmod, chown, cp, date, dd, df, dmesg, echo, ed, false, kill, ln, login, ls, mkdir, mknod, more, mount, mv, ps, pwd, rm, rmdir, sed, setserial, sh, stty, su, sync, true, umount, unam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isszaállítást szolgáló parancso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zek a parancsok lehetővé teszik egy rendszer visszaállításának lehetőségét (ellátva ezzel a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sértetlenségé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tar, gzip, gunzip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link a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gzip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re)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, zca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link a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gzip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re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álózati parancso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tt csak azok a binárisok találhatók, amelyek a felhasználók és a root számára is egyformán szükségesek lehetnek. További hálózati parancsok vannak még a 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/usr/bi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esetleg a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usr/local/bi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nyvtárakb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omainname, hostname, netstat, ping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>
                <a:solidFill>
                  <a:srgbClr val="000000"/>
                </a:solidFill>
                <a:latin typeface="Arial"/>
              </a:rPr>
              <a:t>/boot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: A boot betöltő statikus (nem változtatható) fájlja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z a könyvtár tartalmazza mindazt, ami szükséges a bootolás folyamatához, kivéve a konfigurációs fájlokat és a térképinstallálót (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map installe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/boo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azokat a fájlokat tárolja, amelyek akkor kerülnek használatra, mielőtt még a kernel elkezdené futtatni a felhasználói-módú parancsokat. Ez a könyvtár tartalmazhatja a lementett master boot rekordot, a szektor térkép fájlokat és olyan további adatokat, amelyek nem szerkeszthetők közvetlenül kézz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>
                <a:solidFill>
                  <a:srgbClr val="000000"/>
                </a:solidFill>
                <a:latin typeface="Arial"/>
              </a:rPr>
              <a:t>/boot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: A boot betöltő statikus (nem változtatható) fájlj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okat a programokat, amelyek ahhoz szükségesek, hogy a boot-töltő képes legyen betölteni egy fájlt, a 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/sbin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könyvtárban kell elhelyezni. A boot-töltők konfigurációs fájljainak helye a 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/etc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könyvtárban v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operációs rendszer kerneljét a 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vagy a 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/boo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könyvtárban kell elhelyezn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400" spc="-1" strike="noStrike">
                <a:solidFill>
                  <a:srgbClr val="000000"/>
                </a:solidFill>
                <a:latin typeface="Arial"/>
              </a:rPr>
              <a:t>/dev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: Eszközmeghajtó fájlo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Arial"/>
              </a:rPr>
              <a:t>/dev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önyvtár speciális vagy eszközmeghajtó fájlok lelőhely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mennyiben lehetséges, a </a:t>
            </a:r>
            <a:r>
              <a:rPr b="1" i="1" lang="hu-HU" sz="2800" spc="-1" strike="noStrike">
                <a:solidFill>
                  <a:srgbClr val="000000"/>
                </a:solidFill>
                <a:latin typeface="Arial"/>
              </a:rPr>
              <a:t>/dev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önyvtár eszközmeghajtó fájljait kézi úton kell létrehozni. A </a:t>
            </a:r>
            <a:r>
              <a:rPr b="1" i="1" lang="hu-HU" sz="2800" spc="-1" strike="noStrike">
                <a:solidFill>
                  <a:srgbClr val="000000"/>
                </a:solidFill>
                <a:latin typeface="Arial"/>
              </a:rPr>
              <a:t>/dev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önytárnak tartalmaznia kell egy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MAKEDEV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nevű parancsot, amellyel a szükséges eszközmeghajtó fájlok létrehozható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önyvtár tartalmazhat még egy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MAKEDEV.local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nevű fájlt is a helyi eszközmeghajtó fájlok számá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000" spc="-1" strike="noStrike">
                <a:solidFill>
                  <a:srgbClr val="000000"/>
                </a:solidFill>
                <a:latin typeface="Arial"/>
              </a:rPr>
              <a:t>/etc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: Gépspecifikus (egyedileg jellemző) rendszerkonfiguráci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/etc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könyvtár olyan konfigurációs fájlokat és könyvtárakat tartalmaz, amelyek egyedileg jellemzőek egy adott rendszer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/etc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könyvtárban nem szükséges bináris fájlokat elhelyezn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000" spc="-1" strike="noStrike">
                <a:solidFill>
                  <a:srgbClr val="000000"/>
                </a:solidFill>
                <a:latin typeface="Arial"/>
              </a:rPr>
              <a:t>/etc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: Gépspecifikus (egyedileg jellemző) rendszerkonfiguráci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A /etc könyvtár számára megkívánt fájlok: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ltalános fájlo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djtime, csh.login, disktab, fdprm, fstab, gettydefs, group, inittab, confissue, ld.so.conf, lilo.conf, motd, mtab, mtools, passwd, profile, securetty, shells, syslog.conf, ttyty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álózati fájlo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exports, ftpusers, gateways, host.conf, hosts, hosts.allow, hosts.deny, hosts.equiv, hosts.lpd, inetd.conf, networks, printcap, protocols, resolv.conf, rpc,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ájlrends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UNIX fájlrendszer jellemző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ierarchikus felépít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fájl adatainak következetes kezelé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fájl adatainak védel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 szabvány feltételezi azt, hogy az operációs rendszer alapját egy olyan FHS-engedékeny fájlrendszer alkotja, amely támogatja azokat a biztonsággal kapcsolatos lehetőségeket, amelyek a legtöbb UNIX fájlrendszerben megtalálható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HS - Fájlrendszer-felépítési Szabvány (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Filesystem Hierarchy Standard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000" spc="-1" strike="noStrike">
                <a:solidFill>
                  <a:srgbClr val="000000"/>
                </a:solidFill>
                <a:latin typeface="Arial"/>
              </a:rPr>
              <a:t>/home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: Felhasználói home könyvtárak (szabadon választható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/home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viszonylag szabvány fogalom, de valójában ez egy adott számítógépre jellemző fájlrendszer, amely beállítás gépről gépre eltérő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z csak egy javasolt elhelyezést a felhasználói home könyvtárak számára, mindazonáltal tanácsoljuk, hogy valamennyi FHS-engedékeny terjesztés (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disztribúció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) ezt használja a home könyvtárak alapértelmezett elhelyezéseké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000" spc="-1" strike="noStrike">
                <a:solidFill>
                  <a:srgbClr val="000000"/>
                </a:solidFill>
                <a:latin typeface="Arial"/>
              </a:rPr>
              <a:t>/home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: Felhasználói home könyvtárak (szabadon választható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sebb rendszereken minden felhasználó könyvtára tipikusan csak egy 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home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önyvtár nagyszámú alkönyvtára közöt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Például: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/home/smith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/home/torvald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/home/operato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stb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agyobb rendszereken (főképp amikor a home könyvtárak NFS-en keresztül nagy számú számítógép között megosztottak) hasznos lehet alosztályokba sorolni a felhasználói home könyvtárak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alosztályokba sorolás megvalósítható például olyan könyvtárneveket használva, mint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home/staff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home/guest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home/student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st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/lib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: Alapvető megosztott programkönyvtárak és kernelmodulok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/lib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könyvtár azokat a megosztott programkönyvtár képfájlokat (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shared library images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) tartalmazza, amelyek a rendszer bootolásához szükségesek és a programokat futtatják a root fájlrendszer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/lib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: Alapvető megosztott programkönyvtárak és kernelmodulok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tt található 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lib/libc.so.*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lib/libm.so.*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a megosztott dinamikus kapcsoló (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shared dynamic linker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lib/ld.so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és további - 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bi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és 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sbi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önyvtárak bináris állományai számára szükséges - megosztott programkönyvtára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ok a megosztott programkönyvtárak, amelyek 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usr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önyvtár bináris állományai számára szükségesek (például bármely X Window bináris), nem tartoznak 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lib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önyvtár alá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zárólag 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bi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és 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sbi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önyvtárak bináris állományainak futásához szükséges megosztott programkönyvtárakat kellene ebben a könyvtárban elhelyezni. 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libm.so.*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programkönyvtár elhelyezhető még 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usr/lib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önyvtárban is, ha nem szükséges sem 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bi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sem 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sbi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önyvtárak fájljai számá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Arial"/>
              </a:rPr>
              <a:t>/mn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: Beillesztési pont az időlegesen becsatlakoztatott fájlrendszerek részére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könyvtár funkciója, hogy a rendszeradminisztrátor számára időlegesen szükséges fájlrendszerek becsatlakoztatási helyét elláss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önyvtár tartalma lokális kérdés, ezért ezt nem kellene módosítani, illetve nem kellene építeni egy esetleges tartalom meglété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>
                <a:solidFill>
                  <a:srgbClr val="000000"/>
                </a:solidFill>
                <a:latin typeface="Arial"/>
              </a:rPr>
              <a:t>/opt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: Hozzáadott alkalmazási programcsomago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csomagot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/op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önyvtárba installáljuk és a statikus fájljait egy különálló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/opt/&lt;csomag&gt;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önyvtárfában helyezzük el (ahol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&lt;csomag&gt;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az a név, amely leírja a szoftvercsomagot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okat a programokat, amelyek a felhasználók által használtak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/opt/&lt;csomag&gt;/bi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önyvtárban kellene elhelyezn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mennyiben a csomag tartalmaz UNIX kézikönyvlapokat (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manual page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), ezek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/opt/&lt;csomag&gt;/ma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önyvtárba tehetők, hasonló strukturában, mint ami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/usr/share/ma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önyvtárban haszná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>
                <a:solidFill>
                  <a:srgbClr val="000000"/>
                </a:solidFill>
                <a:latin typeface="Arial"/>
              </a:rPr>
              <a:t>/opt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: Hozzáadott alkalmazási programcsomago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opt/bi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opt/doc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opt/include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opt/info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opt/lib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és 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opt/ma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önyvtárak fenntartottak a helyi rendszeradminisztrátor használatá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csomagok által létrehozott előtér fájlok (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front-end file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) ezekbe a - rendszeradminisztrátor számára fenntartott - könyvtárakba legyenek elhelyezve, akár hivatkozás (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), akár másolat (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copying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) formájában, de a normális működésében ne legyen változás ezen fenntartott könyvtárak hiányában s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csomagok változó tartalmú fájljai - amelyek a normál működés alatt változnak - 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var/op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önyvtárba legyenek installál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>
                <a:solidFill>
                  <a:srgbClr val="000000"/>
                </a:solidFill>
                <a:latin typeface="Arial"/>
              </a:rPr>
              <a:t>/opt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: Hozzáadott alkalmazási programcsomago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 helyezzünk el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/op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/var/op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és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/etc/op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hierarchiákon kívül további - a csomaghoz tartozó - fájlokat, kivételek ez alól azok a csomagfájlok, amelyeket a pontos működés megvalósítása érdekében szükséges a fájlrendszerfa egy speciális részében elhelyezn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ául az eszközmeghajtók lezárófájljait (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device lock file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)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/var/loc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önyvtárban szükséges elhelyezni, az eszközmeghajtó fájlokat pedig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/dev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önyvtárb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000" spc="-1" strike="noStrike">
                <a:solidFill>
                  <a:srgbClr val="000000"/>
                </a:solidFill>
                <a:latin typeface="Arial"/>
              </a:rPr>
              <a:t>/root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: A root felhasználó home könyvtára (elhagyható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oot számlához (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accoun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) tartozó hagyományos home könyvtár a UNIX rendszereken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/roo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önyvtárat igen sok Linux és néhány UNIX rendszeren is használják (például csökkentve ezzel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önyvtárban található zűrzavart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root home könyvtára a fejlesztő vagy a helyi előnyök által is meghatározott leh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ézenfekvő választás lehet például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/roo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vagy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/home/roo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önyvtá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/sbin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: Rendszerbinárisok, (amelyeknek egykor a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/etc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könyvtárban volt a helyük)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endszeradminisztrációra használt segédprogramok (és egyéb - csak a root által használt - programok) 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sbi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usr/sbi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és 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usr/local/sbi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önyvtárakban tárolta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sbi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önyvtár tipikusan csak a rendszer bootolásához és 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bi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önyvtár binárisaihoz szükséges alapvető programokat tartalmaz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ármilyen program is kerül futtatásra 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usr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beillesztése után (amennyiben nem lép fel semmilyen proléma), azokat már 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usr/sbi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önyvtárba kellene elhelyezn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usr/local/sbi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önyvtárba pedig kizárólag a helyi rendszer adminisztrálására fenntartott bináris állományokat kellene elhelyez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ájlrends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efiniálhatjuk a fájlok két világosan értelmezett kategóriájá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egoszthatót a nem megoszthatóval szemb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áltoztathatót a nem változtatható tartalmú (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statiku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ellenéb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egosztható adatokat több hálózati számítógép megosztottan használhatja fel, míg a nem megosztható adatokat csak egy adott számítógép alkalmazhat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éldául a felhasználói home-könyvtárak lehetnek megosztottak, de az eszközmeghajtó lezárófájljai (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loc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n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tatikus (nem változtatható tartalmú) fájlok közé tartoznak például a binárisok, a programkönyvtárak, a dokumentációk, és minden más, amely a rendszergazda beavatkozása nélkül nem változik m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/sbin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: Rendszerbinárisok, (amelyeknek egykor a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/etc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könyvtárban volt a helyü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A /sbin könyvtár számára megkívánt fájlok: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ltalános parancso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clock, getty, init, update, mkswap, swapon, swapoff, telin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rendszer leállításával kapcsolatos parancs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fastboot, fasthalt, halt, reboot, shutdown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Vagy a fenti felsorolás bármilyen kombinációja egészen addig, amíg a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shutdow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s beleértett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arancsok a fájlrendszer karbantartásár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fdisk, fsck, fsck.*, mkfs, mkfs.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jel egyenlő lehet az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ex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ext2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minix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msdo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xi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rtékek valamelyikével, illetve egyéb értékeket is felveh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álózati parancso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ifconfig, route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400" spc="-1" strike="noStrike">
                <a:solidFill>
                  <a:srgbClr val="000000"/>
                </a:solidFill>
                <a:latin typeface="Arial"/>
              </a:rPr>
              <a:t>/tmp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: Ideiglenes fájlo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/tmp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könyvtárat azon programok számára kellene elérhetővé tenni, amelyeknek működéséhez szükségesek ideiglenes (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temporary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) fájl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hu-HU" sz="4400" spc="-1" strike="noStrike">
                <a:solidFill>
                  <a:srgbClr val="000000"/>
                </a:solidFill>
                <a:latin typeface="Arial"/>
              </a:rPr>
              <a:t>/usr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hierarch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/us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a fájlrendszer második legfontosabb rész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/us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egoszható, csak olvasható (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read-on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adatokból ál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z azt jelenti, hogy a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/us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hierarchiának megosztottnak kellene lennie azok között a különböző számítógépek között, amelyek FHS-engedékenyként futnak, valamint nem kellene írhatónak lenn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m sok szoftvercsomagnak kellene használnia a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/us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hierachia alatt található közvetlen alkönyvtárakat. Kivételt képez ez alól az X Window Rendszer (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the X Window System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, mivel tekintélyes kivételt képez és mert gyakorlata széles körben elfogadot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abvány ezen szakasza részletezi a legtöbb dolog (például a csomagok) elhelyezkedését a hierarchián belü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hu-HU" sz="4400" spc="-1" strike="noStrike">
                <a:solidFill>
                  <a:srgbClr val="000000"/>
                </a:solidFill>
                <a:latin typeface="Arial"/>
              </a:rPr>
              <a:t>/usr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hierarch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26920" y="1914480"/>
            <a:ext cx="756144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hu-HU" sz="4400" spc="-1" strike="noStrike">
                <a:solidFill>
                  <a:srgbClr val="000000"/>
                </a:solidFill>
                <a:latin typeface="Arial"/>
              </a:rPr>
              <a:t>/usr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hierarch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övetkező könyvtárakra mutató, szimbolikus hivatkozásoknak szükséges a meglé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zek azon a kívánalmon alapulnak, hogy szükséges megőrizni a kompatibilitást a régebbi rendszerekkel egészen addig, amíg valamennyi implementáció feltételezetten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/va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hierarchiát használ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usr/spool -&gt; /var/spool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usr/tmp -&gt; /var/tmp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usr/spool/locks -&gt; /var/loc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000" spc="-1" strike="noStrike">
                <a:solidFill>
                  <a:srgbClr val="000000"/>
                </a:solidFill>
                <a:latin typeface="Arial"/>
              </a:rPr>
              <a:t>/usr/X11R6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: az X Window Rendszer, 11. verzió, 6. kiadás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dolgok egyszerűsítése végett és hogy az XFree86-ot kompatibilisabbá tegyük a más rendszereken lévő X Window Rendszerrel, szükséges a következő szimbolikus hivatkozások (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) meglét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/usr/bin/X11 -&gt; /usr/X11R6/bi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/usr/lib/X11 -&gt; /usr/X11R6/lib/X11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/usr/include/X11 -&gt; /usr/X11R6/include/X11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000" spc="-1" strike="noStrike">
                <a:solidFill>
                  <a:srgbClr val="000000"/>
                </a:solidFill>
                <a:latin typeface="Arial"/>
              </a:rPr>
              <a:t>/usr/bin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: a legtöbb felhasználói paran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z a rendszeren található, futtatható parancsok elsődleges könyvtá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/usr/bin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-- binárisok, amelyek nem szükségesek egyfelhasználós (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single-user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) módb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/usr/bin/perl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/usr/bin/python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és a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/usr/bin/tcl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programoknak a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perl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python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és a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tcl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burokprogram (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) értelmezőkre kellene hivatkozniu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000" spc="-1" strike="noStrike">
                <a:solidFill>
                  <a:srgbClr val="000000"/>
                </a:solidFill>
                <a:latin typeface="Arial"/>
              </a:rPr>
              <a:t>/usr/include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: a szabványos include fájlok könyvtár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116000" y="2421000"/>
            <a:ext cx="712800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000" spc="-1" strike="noStrike">
                <a:solidFill>
                  <a:srgbClr val="000000"/>
                </a:solidFill>
                <a:latin typeface="Arial"/>
              </a:rPr>
              <a:t>/usr/lib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: a csomagok és a programozás programkönyvtára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/usr/lib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object fájlokat, programkönyvtárakat, valamint olyan belső bináris állományokat tartalmaz, amelyek nem a felhasználók általi vagy a parancsértelmező scriptekbőli (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shell script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) közvetlen futtatására vannak tervez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kívánt, hogy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/usr/lib/X11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szimbolikus hivatkozás (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) az alapértelmezett X terjesztés (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distributio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lib/X11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önyvtárára mutasson, amennyiben az X installált a rendszer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000" spc="-1" strike="noStrike">
                <a:solidFill>
                  <a:srgbClr val="000000"/>
                </a:solidFill>
                <a:latin typeface="Arial"/>
              </a:rPr>
              <a:t>/usr/local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: a helyi felépítmény (hierarchia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/usr/local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hierarchiát a rendszeradminisztrátor használja, amikor helyileg installál egy szoftve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rendszer szoftver frissítése előtt szükséges lehet egy mentés is, a teljes felülírás által elvesztett adatok elkerülésé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z a hierarchia olyan programok és adatok számára használható fel, amelyek megoszthatók egy csoportnyi számítógép között, de nem találhatók meg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/us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hierarchiáb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gosztható és a nem megosztható adatok közötti megkülönböztetés több okból is szükség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álózati környezetben (például, ha több számítógép alkot egy szervezetet) igen nagy mennyiségű adat az, amely megosztott az eltérő gépek között (adatterületet spórolva ezáltal, valamint megkönnyítve a fenntartás folyamatá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zonyos fájlok hálózati környezetben is olyan adatokat tartalmaznak, amelyek csak egy adott számítógéphez kapcsolódnak. Ezért ezeket a fájlrendszereket nem lehet megosztani (mértéktelenül semmiképpen sem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NIX típusú fájlrendszerek történelmi implementációi egyazon fájlrendszerbe vegyítik a megosztható és a nem megosztható adatokat is, megnehezítve ezáltal a fájlrendszer széleskörű kiosztás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000" spc="-1" strike="noStrike">
                <a:solidFill>
                  <a:srgbClr val="000000"/>
                </a:solidFill>
                <a:latin typeface="Arial"/>
              </a:rPr>
              <a:t>/usr/local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: a helyi felépítmény (hierarchia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692360" y="1776240"/>
            <a:ext cx="611964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000" spc="-1" strike="noStrike">
                <a:solidFill>
                  <a:srgbClr val="000000"/>
                </a:solidFill>
                <a:latin typeface="Arial"/>
              </a:rPr>
              <a:t>/usr/sbin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: nem alapvető, szabványos rendszerbináriso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z a könyvtár kizárólag a rendszeradminisztrátor által használt, nem létfontosságú binárisokat tartalmaz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olyan rendszeradminisztrációs feladatok programjait, mint például a rendszer javítása, visszaállítása, 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usr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becsatlakoztatása, vagy egyéb létfontosságú funkciók; inkább 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sbi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önyvtárba kellene elhelyezn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usr/sbi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önyvtár tipikusan hálózati démonokat, tetszőleges nem létfontosságú adminisztrációs eszközöket tartalmaz, valamint bináris állományokat nem kritikus kiszolgáló (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server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) programokho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/va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hierarch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78487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/va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hierarch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var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önyvtár tartalmazza a változó tartalmú és méretű adatfájlokat. A hierarchia magában foglalja a várakozási sorok (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spool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) könyvtárait és fájljait, az adminisztrációs és a naplózási adatokat, valamint az átmeneti, ideiglenes fájlokat 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var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felépítésnek tartalmaznia kell 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loc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spool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és 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tmp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önyvtárakat - valamennyi terjesztés (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disztribúció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) használja is ezeket a könyvtárakat -, valamint szintén szükséges tartalmaznia az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ccoun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crash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game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és az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yp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önyvtárakat, és használnia is szükséges a terjesztésnek ezeket a könyvtárakat, amennyiben a megfelelő alkalmazás vagy tulajdonság a terjesztés által ellátot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000" spc="-1" strike="noStrike">
                <a:solidFill>
                  <a:srgbClr val="000000"/>
                </a:solidFill>
                <a:latin typeface="Arial"/>
              </a:rPr>
              <a:t>/var/log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: Naplófájlok és könyvtára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z a könyvtár különféle naplófájlokat tartalmaz. A legtöbb naplófájlt vagy ebbe a könyvtárba kellene írni, vagy e könyvtár egy megfelelő alkönyvtárá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Arial"/>
              </a:rPr>
              <a:t>lastlog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ögzíti valamennyi felhasználó utolsó bejelentkezésé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Arial"/>
              </a:rPr>
              <a:t>message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syslogd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démontól származó rendszerüzenet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Arial"/>
              </a:rPr>
              <a:t>wtmp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ögzíti valamennyi felhasználó be- és kijelentkezésé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,,megosztható'' megkülönböztetés általában támogatott példáu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usr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partíció (vagy annak egyes részei) beépítve - csak olvashatóan (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read-only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) - a hálózaton keresztül (használva az NFS-t /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Network File System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/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/usr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partíció (vagy annak egyes részei) beépítve csak olvasható adathordozóról. Egy CD-ROM például felhasználható egy csak olvasható fájlrendszer megosztására más FHS-engedékeny rendszerekkel, használva a postai levelezési rendszert hálózat gyaná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statiku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sal (nem változó) szembeni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változtatható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megkülönböztetés két fő területen érinti a fájlrendszer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mióta a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artalmazza mindkét adattípust (a statikust és a változtathatót is), csak olvashatóként (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read-on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szabad becsatlakoztatn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után a hagyományos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/us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szintén tartalmazza mindkét adattípust (a statikust és a változtathatót is), és mivel csak olvashatóként (lásd feljebb) szeretnénk becsatlakoztatni, szükség van egy módszerre annak megoldására, hogy a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/us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csak olvashatóként legyen beilleszt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z megtehető a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/va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hierarchia létrehozásán keresztül, amely írhatóan és olvashatóan csatlakoztatható be (vagy része lehet egy másik írható és olvasható partíciónak, pl. a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nek), átvállalva a /usr partíció hagyományos szerepé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Összefoglalv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240" cy="4525200"/>
        </p:xfrm>
        <a:graphic>
          <a:graphicData uri="http://schemas.openxmlformats.org/drawingml/2006/table">
            <a:tbl>
              <a:tblPr/>
              <a:tblGrid>
                <a:gridCol w="2448720"/>
                <a:gridCol w="2469960"/>
                <a:gridCol w="3310560"/>
              </a:tblGrid>
              <a:tr h="90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oszthat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 megoszthat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k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us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et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o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bo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áltoztathat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var/ma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var/r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var/sp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var/lo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Root (gyökér) könyvtá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root fájlrendszernek - a megfelelő működéshez - tartalmaznia kell a bootolással, a mentésből való visszatöltéssel, az újraélesztéssel és a rendszer javításával kapcsolatos eszközöke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 rendszer bootolásakor, a root partíción már olyan eszközöknek kell lenniük, amelyekkel lehetséges becsatlakoztatni más fájlrendszereket is (pédául az együttműködni képes kiválasztott hardver és szoftver eszközök összessége, a bootolási információ, segédprogramok, egyéb, az induláshoz alapvetően szükséges adatok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rendszer megjavításának és újraélesztésének lehetővé tételéhez olyan segédprogramok szükségeltetnek a root fájlrendszeren, amelyekkel egy tapasztalt rendszerfenntartó megvizsgálhatja és újraszerkesztheti a sérült rendsze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rendszer visszatöltéséhez olyan segédprogramok szükségesek a root fájlrendszeren, amelyekkel elvégezhető egy - floppy-n vagy szalagos meghajtón stb. található - mentés visszatöltése.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Root (gyökér) könyvtá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megfontolások mérlegelésekor az elsődleges gond az szokott lenni, hogy melyik a legkedvezőbb elhelyezése ennek a sok dolognak úgy, hogy továbbra is megtartsuk azt a célt, hogy a root fájlrendszer olyan kis méretű maradjon, amennyire csak lehetség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10:03:09Z</dcterms:created>
  <dc:creator>Nagymáté Péter</dc:creator>
  <dc:description/>
  <dc:language>en-US</dc:language>
  <cp:lastModifiedBy>Nagymáté Péter</cp:lastModifiedBy>
  <dcterms:modified xsi:type="dcterms:W3CDTF">2005-02-22T12:16:53Z</dcterms:modified>
  <cp:revision>21</cp:revision>
  <dc:subject/>
  <dc:title>Operációs rendszerek II.</dc:title>
</cp:coreProperties>
</file>